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44F5-040C-464C-8FA7-C01E65592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CAE5-35D0-4274-9358-B466611D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5909-F388-4BD1-A53E-35A7F9FAD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9302-C736-45FA-B6C2-45F670797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7897-E6C3-451A-9C78-1F1E1365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D634-DB51-411F-8CFA-5529C4C0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3061-3F12-4525-92D9-4A08F399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83F8-1571-40B4-AA0A-09A5A353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6298-9696-4CF0-A15D-8C17E78B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2560-6FB7-42F7-AC8E-306D2002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2B7D-942D-4A82-92DC-61349AC5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5D06-DAD3-42DF-882C-DBBEB051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0F96-4F09-4F77-9679-706C3EBFD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uilding a messag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E710-62E4-423F-98EE-56838C68651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unctional grammar and word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umerals added as a category: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one, two, three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nouns (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I, you, he, etc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sumed within nouns (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ar, sheep, happiness, Pau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279F-1E9C-4FBE-A85B-493C38FCAF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u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mmon nou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ble, dog,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per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ou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rmingham, J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bstract nou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auty, demo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nou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e, herself, who,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ever, what,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, this, that,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, th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081B-73B7-494E-9535-48C521ED68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cc00"/>
                </a:solidFill>
                <a:latin typeface="Arial"/>
              </a:rPr>
              <a:t>PHR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un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hras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at strang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fe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b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hrase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: is;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ould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jective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hrase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uch happi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erb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hras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:now; ver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positional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hras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f that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rang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ee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01C6-AD8E-428C-9E6A-130F5C1E0E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CL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Independ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stands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.g: The shoppers f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epend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provides supportive inform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.g: when the fire alarm ra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8487-6C88-421A-8A20-F7CF3AFA12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, P(V), O, C,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addition to grammatical categori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al categori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Subjec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Predicate (verb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Ob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99"/>
                </a:solidFill>
                <a:latin typeface="Arial"/>
              </a:rPr>
              <a:t>Comple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jun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1289-B8B4-454D-AB79-5EBD685396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ject, Verb, Object, Complement, Adjun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 sentence consists o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perhaps other elements following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ther elements are necessary to complete the structure of the sentence, they are called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ompleme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cluding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object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f they are optional extras, giving circumstantial detail, they are called adjun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ng, David J. (CB)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troducing English Grammar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don, UK: Routledge, 1984. p 71. available: http://site.ebrary.com/lib/aston/Doc?id=10060832&amp;ppg=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right © 1984.  Routledge. 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9222-40F0-4943-9B0B-B2175910E0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s the questio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Who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12AE-ECA2-4146-ADFF-233EDF0DF7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s the questio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Who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es before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397D-302C-45D1-BAEB-04EEA055A2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s the questio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Who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es before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wall-eyed nurse  came b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 tried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84720" y="278136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378936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8FDF-69A1-45E6-8F52-11FA07F0AF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ten affects the form of the ver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ctor Gordon  was unlocking  the clo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(P)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 were  glad to let 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35640" y="2637000"/>
            <a:ext cx="0" cy="93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2637000"/>
            <a:ext cx="0" cy="9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03280" y="422100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11280" y="422100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6582-736A-4D37-8DCA-33A74BAEE2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Parts of Spee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Word Clas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19BD-31C6-407C-A490-AE0A2DC32C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s the question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Whom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A7DC-BFB5-4276-8296-25CEEFAF2A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s the question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Whom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es after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4F2B-35F6-4B5E-9CD8-EB4527150C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s the question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Whom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es after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fers to a different entity from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ctor Gordon  was unlocking  the clo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    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  unclasped  my watc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87640" y="3357720"/>
            <a:ext cx="0" cy="9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3357720"/>
            <a:ext cx="0" cy="9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58920" y="494172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59280" y="494172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A0D8-2188-4CD6-87B9-A9CEFE89AE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(P)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Extract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e wall-eyed nurs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came bac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unclasp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my w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dropped it in her poc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he started tweaking the hairpins from my h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Doctor Gordo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was unlock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the close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 dragged out a table on wheels with a machine on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lled it behind the head of the 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urse started swabbing my temples with a smelly gr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F532-5BDF-4F90-BD04-BC1980F587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: Identify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Extract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e wall-eyed nurs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came bac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unclasp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my w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dropp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i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her poc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started tweak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the hairpi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rom my h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Doctor Gordo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was unlock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3300"/>
                </a:solidFill>
                <a:latin typeface="Arial"/>
              </a:rPr>
              <a:t>the close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dragged ou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a table on wheels with a machine on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rolle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i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ehind the head of the 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e nurs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started swabb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my templ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ith a smelly gr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52B7-C80D-4DCB-9894-514789BCBD6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ransitive cla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uses with both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TRAN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cting on or affecting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ject = ‘doer’ =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c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ject = ‘done-to’ =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Aff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BA16-D962-40E5-90C2-E54E90BD9B8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SK: Who does what to whom or 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c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ur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I’ [= narrator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b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DF14-2F98-4284-A473-320F1BD0AE1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: Who does what to whom or 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c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ur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‘I’ [= narrator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b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loset;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y watc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able o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[my watch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els with a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airpin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chine on it’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y te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[the table on …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332C-7026-4A14-A582-E0CB06867EF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ERB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predicator) is the essential element in any cl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st clauses also require a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clauses also have an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itive cl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r + action + done-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DBD5-9D80-442E-9436-B4F9676D847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e vs Passive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unclaspe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my watc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S(P)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tweake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the hairpi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[from my hair]=S(P)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ss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My watch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was unclasp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S(P)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e hairpin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were tweak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[from my hair]=S(P)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CA8E-084F-4C5C-883E-74DC2D73D0D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NK SCA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t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Clau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Ph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Morphe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EFCB-F8E7-44F8-9AB8-9DED7AC002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other kind of claus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 all verbs represent actions done to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  was  cool and fre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263700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87640" y="263700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1BDE-9722-458B-A0E8-22F7D250F9B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other kind of claus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 all verbs represent actions done to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  was  cool and fre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not make a passive version of the cl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l and fresh was been  - 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95640" y="263700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87640" y="263700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01A7-5A33-4362-80AA-6E54596FEF7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om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required by a small number of verb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0D36-5033-4978-99A1-25EF3875F30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om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efers to the same entity as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cribes or evaluates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ool and fre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er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r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only a few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lt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sick about saying goodbye like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‘equals sign test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=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l and fresh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not be mad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a passive version of the cl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8FCA-A696-45F0-AD58-2760DFD979E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ansitive cl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obligatory, the clause i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an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ansitiv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verbs can occur without either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they]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r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the train … they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quarrell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bout her not being willing to come home a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verbs may be used either transitively or intransitive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y’s tackl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rok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atson’s l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hought my bones woul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3630-536E-4E6D-94DC-BD58BC96C47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very hot evening in Padua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arrie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him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 on to the ro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uld loo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ut over the top of the t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r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er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chimney swif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the s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a whil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go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d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 searchlight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ame ou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 other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ook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the bottl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th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e and Luz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uld hear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the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elow on the balco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uz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a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n the b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a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cool and fres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the hot 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1354-1841-4281-B280-F6611FC944D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30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400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700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800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very hot evening in Padua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arrie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him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 on to the ro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uld loo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ut over the top of the t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r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er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chimney swif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the s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a whil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go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d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 searchlight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ame ou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 other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ook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the bottl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th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e and Luz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uld hear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the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elow on the balco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uz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a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n the b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a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cool and fres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the hot 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2ECF-08B4-43D6-89F9-6E3A91F10D5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30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4000"/>
                            </p:stCondLst>
                            <p:childTnLst>
                              <p:par>
                                <p:cTn id="6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600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7000"/>
                            </p:stCondLst>
                            <p:childTnLst>
                              <p:par>
                                <p:cTn id="6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8000"/>
                            </p:stCondLst>
                            <p:childTnLst>
                              <p:par>
                                <p:cTn id="6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Rank Sca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TENCE (or clause comple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a moment the place was lifeless, and then two men emerged from the path and came into the opening by the green poo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a moment the place was lif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 and then) two men emerged from the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and) came into the opening by the green poo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D66D-727D-44F6-8E8F-45D385116D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UP/PH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lac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a mo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les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the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men emerged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the pat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o the openin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the green poo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3761-884D-467D-A7FC-218DC6C2F5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ac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les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P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 –les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erge - 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5A09-CB69-4F9F-904A-279A4E76C4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 a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PHR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CL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OMPLETE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FA5E-5F64-4CF4-8575-D3AFB31098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rts of Speech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n Word Classes: lexical or full word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j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verb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FD90-5604-4350-A622-E92EB316D0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rts of Speech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osed word classes: grammatical or empty wor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terminers or 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no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posi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j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6480-21DA-416C-B92A-B3CDD21849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15:38:30Z</dcterms:created>
  <dc:creator>student</dc:creator>
  <dc:description/>
  <dc:language>en-US</dc:language>
  <cp:lastModifiedBy>fox</cp:lastModifiedBy>
  <dcterms:modified xsi:type="dcterms:W3CDTF">2009-02-12T10:56:25Z</dcterms:modified>
  <cp:revision>8</cp:revision>
  <dc:subject/>
  <dc:title>Parts of Speech and SPOCA</dc:title>
</cp:coreProperties>
</file>